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4B41-C71D-4051-AA09-61EF0E77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E5F-227D-4782-B067-21764786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F7B-5DFF-4688-A53A-6F4D8278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992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124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992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124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8C6-AE18-4DD1-8E71-71AB3141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853-BF5A-49C4-B378-E74F7FF0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74C-E544-424F-880A-28AD3819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C52-4113-4314-A8C3-9C9887E8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6B0-6FA5-4E70-A302-2268F1C4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696-5ED1-46BD-9ADB-EEEECDC5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A0F-DDA5-4D40-9276-255BA5B4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59E-0343-403B-823D-438A4692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39A-1D4B-4EF2-A718-11C928FB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600" y="6629040"/>
            <a:ext cx="5867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1A0E-B9EB-4CBB-A213-28729706A4D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إن عبد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يره الله بين الدنيا وبين ما عند الله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اختار ما عند الله  فلم يفهم أحد قصد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هذه الجمله ، وكان يقصد نفسه ، سيدنا أبوبكره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وحيد الذي فهم هذه الجمله ، فانفجر بالبكاءوعلي نحيبه ووقف وقاطع النبي وقال : فدينا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آبائنا ، فديناك بأمهاتنا ، فديناء بأولادن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ديناك بأزواجنا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ديناك بأموالنا ، وظل يردده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1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نظر الناس إلي أبوبكر ، كيف يقاطع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خذ النبي يدافع عن أبوبكر قائلا : 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اس ، دعو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بوبكر ، فما منكم من أحد كان له عندنا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ضل إلا كافأناه به ، إلا أبوبكر لم أستط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كافأته ، فتركت مكافأته إلي الله عز وج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كل الأبواب إلي المسجد تسد إلا باب أبوبكرلا يسد أبد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 rtl="1">
              <a:lnSpc>
                <a:spcPct val="1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أخيرا قبل نزوله من المنبر .. بدأ الرس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الدعاء للمسلمين قبل الوفاه كآخر دعوا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هم ، ف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آواكم الله ، حفظكم الله ، نصركم الله ، ثبتكم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، أيدكم الله  .. وآخر كلمه قالها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آخر كلمه موجهه للأمه من علي منبره قبل نزو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 الناس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قرأوا مني السلام كل من تبعني من أمت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لي يوم القيام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حمل مرة أخري إلي بيته . وهو هناك دخل علي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بد الرحمن بن أبي بكر وفي يده سواك ، فظ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ينظر الي السوا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لكنه لم يستطيع ان يطلبه من ش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رضه . ففهمت السيده عائشه من نظرة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خذت السواك من عبد الرحمن ووضعته في ف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، فلم يستطع أن يستاك به ، فأخذته من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جعلت تلي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فمها وردته للنبي مره أخري حتي يكون طريا عليه فقالت : كان آخر شئ دخل جوف النبي ه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يقي ، فكان من فضل الله علي أن جمع بين ريق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ريق النبي قبل أن يمو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ول السيده عائشه : ثم  دخ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اطمه بنت النبي ، فلم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خلت بكت ، لأن النبي لم يستطع القيام ، لأ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ان يقبلها بين عينيها كلما جاءت إلي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دنو مني يا فاطم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فحدثها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ي أذنها ، فبكت أكثر . فلما بكت قال لها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دنو مني يا فاطمه ) فحدثها مره أخري ف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ذنها ، فضحك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عد وفاته سئلت ماذا 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ك النبي ، فقالت : قال لي في المره الأول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فاطمه ، إني ميت الليله ، فبكيت ، فلم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جدني أبك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قال :( يا فاطمه ، أنتي أول أهلي لحاقا 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ضحك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 السيده عائشه : ثم قال النبي :( أخرجوامن عندي في البيت ) وقال : ( ادنو مني يا عائش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نام النبي علي صدر زوجته ، ويرفع يده للسماء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يقول : بل الرفيق الأعلي ، بل الرفيق الأعل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 السيده عائشه : فعرفت أنه يخير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سيدنا جبريل دخل علي النبي وقال : يارس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له ، ملك الموت بالباب ، يستأذن أن يدخ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ك ، وما استأذن علي أحد من قبلك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: إءذن له يا جبري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دخل ملك الموت علي النبي وقال : السلام علي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رسول الله ، أرسلني الله أخيرك ، بين البقا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 الدنيا وبين أن تلحق بالله . فقال النب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ل الرفي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أعلي ، بل الرفيق الأعل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وقف ملك الموت عند رأس النبي وقال : أيت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روح الطيبه ، روح محمد بن عبد الله ، أخرج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لي رضا من الله و رضوان ورب راض غير غضب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ول السيده عائشه : فسقطت يد النبي وثق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رأسه في صدري ، فعرفت أنه قد مات ... فلم أدر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أفعل ، فما كان مني غير أن خرجت من حجر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فتحت بابي الذي يطل علي الرجال في المسج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أقول مات رسول الله ، مات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نفجر المسجد بالبكاء . فهذا علي بن أب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طالب أقعد ، وهذ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ثمان بن عفان كالصبي يؤخذ بيده يمني ويسر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هذا عمر بن الخطاب يرفع سيفه ويقول من 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نه قد مات قطعت رأسه ، إ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هب للقاء ربه كما ذه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وسى للقاء ربه وسيعود ويقتل من قال أنه ق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ات . أما أثبت الناس فكان أبوبكر الصديق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ضي الله عنه دخل علي النبي واحتضنه و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آآآ خليل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آآ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فياه ، وآآآ حبيباه ، وآآآ نبياه . وقبل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قال : طبت حيا وطبت ميتا يا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خرج يقول : من كان يعبد محمدا فإن محمد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د مات ، ومن كان يعبد الله فإن الله حي ل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موت ... ويسقط السيف من يد عمر بن الخطاب ،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قول : فعرفت أنه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د ما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يقول : فخرجت أجري أبحث عن مكان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جلس فيه وحدي لأبكي وحد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قبل الوفاة ، آخر شئ للرسول كان حجة الوداع، وبعدها نزل قول الله عز وجل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يوم أكملت لكم دينكم وأتممت عليكم نعمتي ورضيت لكم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اسلا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دين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  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بكي أبوبكر الصديق عند سماعه هذه الآيه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قالوا له مايبكيك يا أبوبكر انها آيه مثل كل آيه نزلت علي الرسول .. فقال : هذا نعي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 rtl="1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دفن النبي  والسيده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طمه تقول : أطابت أنفسكم أن تحثوا التراب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 وجه النبي ... ووقفت تنعي النبي وتق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أبتاه ، أجاب ربا دعاه ، يا أبتاه ، جنة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فردوس مأواه ، يا أبتاه ، الي جبريل ننعاه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ري ، هل ستترك حياتك كما هي بعد وصايا رس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صلي الله عليه وسلم لك في آخر كلم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ه ؟؟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 أدري ماذا ستفعل كي تصبر علي ابتلاء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دني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 rtl="1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جاء من فضلك وليس امر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ن اعجبك محتوى الرسالة اعد ارسلها لغيرك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ن الدال على الخير  كفاعله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عاد الرسو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قبل الوفاه ب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يام نزلت آخ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يه من القرآن  واتقوا يوما ترجعون في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ي الله ثم توفي كل نفس ما كسبت وهم لا يظلمو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بدأ الوجع يظهر علي الرسول فقال : أريد أ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زور شهداء أحد  فذهب الي شهداء أحد ووق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 قبور الشهداء وقال : السلام عليكم ي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شهداء أحد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نتم السابقون وإنا إنشاء الله بكم لاحقون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وإني إنشاء الله بكم لاح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أثناء رجوعه من الزياره بكي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لى الله عليه وسلم قالوا ما يبكيك يا رس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له ؟ قال : اشتقت الي إخوان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، قالو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ولسنا إخوانك يا رسول الله ؟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نتم أصحابي ، أما إخواني فقوم يأتون من بعد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ؤمنون بي ولم يرو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  <a:cs typeface="Arial"/>
              </a:rPr>
              <a:t>اللهم أنا نسالك أن نكون منه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عاد الرسول ، وقبل الوفاه ب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يام بدأ الوج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شتد عليه وكان في بيت السيده ميمونه ، 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جمعوا زوجاتي  ، فجمعت الزوجات ، فقا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تأذنون لي أن أمرض في بيت عائشه ؟  فقل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ذن لك يا رسول الله فأراد أن يقوم فما استطا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جاء علي بن أبي طالب والفضل بن العباس فحمل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خرجوا به من حجرة السيده ميمونه الي حجر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سيده عائشه فرآه الصحابه علي هذا الح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أول مر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بدأ الصحابه في السؤال بهل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اذا أحل برسول الله .. ماذا أحل ب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تجمع الناس في المسجد وامتلأ وتزاحم النا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بدأ العرق يتصبب من النبي بغزاره ، فقا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سيده عائشه : لم أر في حياتي أحد يتصبب عرقابهذا الشكل . فتقول : كنت آخذ بيد النبي وأمسح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ها وجهه لأن يد النبي أكرم وأطيب من يدي. وتقو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سمعه يقول : لا اله إلا الله ، إن للمو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سكرا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ر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تقول السيده عائشه : فكثر اللغ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ي الحديث ف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مسجد اشفاقا علي الرسول فقال النبي : ماهذا؟. فقالوا : يارسول الله ، يخافون عليك . 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حملوني إليهم. فأراد أن يقوم فما استطا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صبوا عليه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قرب من الماء حتي يفيق . فحم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وصعد إلي المنبر .. آخر خطبه لرسول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 آخر كلمات 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قال 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 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 الناس ، كأنكم تخافو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ي  فقالوا : نعم يارسول الله . ف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موعدكم معي ليس الدنيا ، موعدكم مع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ند الحوض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له لكأني أنظر اليه من مقامي هذا . 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و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الفقر أخشي عليكم ، ولكني أخشي عليكم الدني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تنافسوها كما تنافسها الذين من قبلك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تهلككم كما أهلكته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  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1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في الصلاه ، الله الله في الصلاه  بمعن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ستحلفكم بالله العظيم أن تحافظوا علي الصل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ظل يردده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8:40:16Z</dcterms:created>
  <dc:creator>NIDHAL JABER</dc:creator>
  <dc:description/>
  <dc:language>en-US</dc:language>
  <cp:lastModifiedBy>ucs</cp:lastModifiedBy>
  <dcterms:modified xsi:type="dcterms:W3CDTF">2006-10-19T07:29:11Z</dcterms:modified>
  <cp:revision>40</cp:revision>
  <dc:subject/>
  <dc:title>اللحظات الأخيره  </dc:title>
</cp:coreProperties>
</file>